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8850B-B03D-475A-93CC-8FC1F014C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594C8-5AB4-4901-9D3E-C6BA6BDC7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730D7-D0E3-4B7B-A180-826E51CB3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C27ED-BD11-4209-9E76-E4C58D01E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EAD9-6BA0-4818-A9F1-720E2B157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102D3-5717-406B-AE58-2A75487C4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21B90-A410-4A1D-ACE7-FCE2A1ABB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A4BEA-13C2-47E9-8E6A-BE6E88572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D059E-0B62-4C49-BE90-D056BCB19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6EDC-73F9-4572-A828-306B98497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1D717-B6FF-40CF-96E7-99B83E4D4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170B-9428-472D-9634-11477F257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B329-67FC-4200-896E-B9802B421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7"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8" name="Picture 5" descr=""/>
          <p:cNvPicPr/>
          <p:nvPr/>
        </p:nvPicPr>
        <p:blipFill>
          <a:blip r:embed="rId1">
            <a:grayscl/>
          </a:blip>
          <a:stretch/>
        </p:blipFill>
        <p:spPr>
          <a:xfrm>
            <a:off x="5105520" y="160020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50"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3:0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